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EED-6E33-41A6-A0E1-09F66AF3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11F-7F91-496D-96EA-A7EE1245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ADB-B297-46BC-AC11-3AD7E313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60D-6600-463F-B212-DD79CDF9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5D4-25BD-4DFF-9C7D-49E5C633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0AC-76CA-4234-BFA8-3E25D37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636-1F83-4A9F-AED4-3FF74F83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6AC-B32A-4D81-AE9A-8CF6EDBB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971-4A9D-4C03-9C5E-CEBD8B1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C94-9A19-4474-B4E1-76DE2D03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205-1886-445D-BD7E-A90129F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759-68F3-47EF-B859-F32508B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6B16-E9FF-495C-91B9-C92747FCE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279440" y="1809720"/>
            <a:ext cx="65595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: Do a Bless Conference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440" y="1447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n’t try to revise until you’ve gotten some feedback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nchanese\AppData\Local\Microsoft\Windows\Temporary Internet Files\Content.IE5\9MUQ803S\MC900230747[1].wmf"/>
          <p:cNvPicPr/>
          <p:nvPr/>
        </p:nvPicPr>
        <p:blipFill>
          <a:blip r:embed="rId1"/>
          <a:stretch/>
        </p:blipFill>
        <p:spPr>
          <a:xfrm>
            <a:off x="304920" y="3781440"/>
            <a:ext cx="4647960" cy="2849400"/>
          </a:xfrm>
          <a:prstGeom prst="rect">
            <a:avLst/>
          </a:prstGeom>
          <a:ln w="0">
            <a:noFill/>
          </a:ln>
        </p:spPr>
      </p:pic>
      <p:sp>
        <p:nvSpPr>
          <p:cNvPr id="45" name="PubOvalCallout"/>
          <p:cNvSpPr/>
          <p:nvPr/>
        </p:nvSpPr>
        <p:spPr>
          <a:xfrm flipH="1">
            <a:off x="3276000" y="2781360"/>
            <a:ext cx="3771720" cy="1600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the way, I’m tot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itera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: Do the Revision Check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y audience obvious and specif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OK if your audience in “college” for now, but specific schools hel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my statement have an “angle”? Is it clear what I’m trying to get out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is my statement uniquel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Where are examples of my voice or unique perspective? Be able to l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nchanese\AppData\Local\Microsoft\Windows\Temporary Internet Files\Content.IE5\N3169SS1\MC900084292[1].wmf"/>
          <p:cNvPicPr/>
          <p:nvPr/>
        </p:nvPicPr>
        <p:blipFill>
          <a:blip r:embed="rId1"/>
          <a:stretch/>
        </p:blipFill>
        <p:spPr>
          <a:xfrm>
            <a:off x="7104240" y="5334120"/>
            <a:ext cx="203184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PubOvalCallout"/>
          <p:cNvSpPr/>
          <p:nvPr/>
        </p:nvSpPr>
        <p:spPr>
          <a:xfrm>
            <a:off x="6248520" y="5057640"/>
            <a:ext cx="1216080" cy="779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r qu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: Rev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your statement better. Use feedback from yourself and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address meeting to see if your changes are work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shred meeting if you’re feeling “don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nchanese\AppData\Local\Microsoft\Windows\Temporary Internet Files\Content.IE5\9MUQ803S\MC900363048[1].wmf"/>
          <p:cNvPicPr/>
          <p:nvPr/>
        </p:nvPicPr>
        <p:blipFill>
          <a:blip r:embed="rId1"/>
          <a:stretch/>
        </p:blipFill>
        <p:spPr>
          <a:xfrm>
            <a:off x="6346800" y="4592520"/>
            <a:ext cx="2382840" cy="226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nchanese\AppData\Local\Microsoft\Windows\Temporary Internet Files\Content.IE5\V8YN1CYM\MC900111910[1].wmf"/>
          <p:cNvPicPr/>
          <p:nvPr/>
        </p:nvPicPr>
        <p:blipFill>
          <a:blip r:embed="rId2"/>
          <a:stretch/>
        </p:blipFill>
        <p:spPr>
          <a:xfrm>
            <a:off x="4114800" y="4592520"/>
            <a:ext cx="2698920" cy="2287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nchanese\AppData\Local\Microsoft\Windows\Temporary Internet Files\Content.IE5\N3169SS1\MC900441766[1].png"/>
          <p:cNvPicPr/>
          <p:nvPr/>
        </p:nvPicPr>
        <p:blipFill>
          <a:blip r:embed="rId3"/>
          <a:stretch/>
        </p:blipFill>
        <p:spPr>
          <a:xfrm>
            <a:off x="1371600" y="41911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2:20:28Z</dcterms:created>
  <dc:creator>Chanese, Nicholas</dc:creator>
  <dc:description/>
  <dc:language>en-US</dc:language>
  <cp:lastModifiedBy>Chanese, Nicholas</cp:lastModifiedBy>
  <dcterms:modified xsi:type="dcterms:W3CDTF">2011-06-02T13:34:56Z</dcterms:modified>
  <cp:revision>4</cp:revision>
  <dc:subject/>
  <dc:title>PowerPoint Presentation</dc:title>
</cp:coreProperties>
</file>